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903B-8ED4-4184-9789-FB9C7E9EE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43E4-4ADA-4603-8D5E-17B10FAC48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BEBD-2523-4FF3-8E14-D430AA14E4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A837-C5A7-42F3-AD65-6DEB0B064D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CEB4-C45D-4924-8086-E50E5897D14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27F0-650F-47A1-861A-AD2B09981DF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4D462-E19B-4627-A26B-8A513BE7BC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F054-F3F4-4749-93A2-06C52CBFC71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95AE5-F275-436B-8DA1-644070A5E4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FB42-17F8-435B-AC36-7A08852EC80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B599-8CF5-434D-B283-65EB08EB642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6CA0E-0297-46CB-99DC-95F3BB227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5533-2631-423A-8F00-2C0AD1C7D92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5D37A-A607-47AA-87BA-0E2185FBE64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4E588-8213-4A9B-A2D9-4ECD9D7F865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799C8-0A60-487A-8585-D900E1D1D6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561F68-2DB9-4407-B4A8-669FB234622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27277-EF50-4EB3-9070-18A1F022F41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B511BB-B18A-4E28-A489-28135C007D2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47361-2313-4B45-BAC4-8345798ADB6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AF5BB-85A4-4C1F-955B-C17681E73B7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C74780-AED8-4119-ABF0-03390EE57AD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35F5F-D359-4ADF-9FC2-4303D9D6E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7520-AD17-452F-8B44-390A1A91937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5DDF8-2A77-4D5C-8486-6636A637829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513EE-A60F-4828-8E57-ADEAE12A0DA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E38C9-0D95-475F-83C5-624B6F2BB21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427EC-EE8F-41FB-86F0-D3BA00B8E1C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0E7552-8F84-4A8F-9637-0B3A3911CC2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4EC04-4A67-4AA6-9C27-7D9462AFE0A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F6BB2-EE2B-46A8-9915-C3CECE6C24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D9CCC-2B04-43CC-91F3-F6FD6865D4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7F9E0-D546-434A-A78F-77BA23BA5DB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6D611-2A70-442D-993D-A7478CF9F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50A4-9C7D-445C-8156-5AD8B7FC946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0A785-CA4A-4516-998A-0865BD583A1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284A1-CF23-4D15-8E1A-07AC73894C0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ACE1D-674C-426D-82D4-4EA09026773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AD94E-F063-4F48-AE31-151A4BE3995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B802-1D55-4A71-9640-EB1FD146B3F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53DE-E3C6-488C-9887-AC5665A13E8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8DBE-03C3-44C7-B693-E4BC17BBBC9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20ED8-8206-420A-AF66-FFAB8B1CBD8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981E5-953E-43D0-89C3-307188B1B5F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16D6-14BC-4AE6-959F-963D2D6405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AA68-4846-4F3E-8D90-B19E7374EDD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59DC-A085-481F-A278-9863A8244C3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846BE-3496-4510-8948-DBB638952DC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7F06-9EB5-40DC-BF23-6992B4AF9F2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4BB2B-64FF-4875-B3FD-14F6A3E0F83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76D0C-A857-44DD-B8BF-CF51D8E1B8C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6A9247-07CF-4890-AE8C-DE9CC6D2778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C3E3E4-71CB-48A0-9350-F12A9E3BA76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EFCC95-1C00-428F-89CB-DE511256B0D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58EF1A-F34B-4729-9D87-445B810759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F5D1DF-EF3E-4BB8-B56E-13ECBAAC18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6F65-560A-490E-945E-155FD90163A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4A59E7-F00A-450F-8D57-7AACC45D1D9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E22237-9267-418B-B44A-5240F7382FB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42E46-A834-4B70-839A-C3F34EC256B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39DAE9-D905-4B6D-9BFF-7A95EA5D052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B22B19-A88D-4D5C-B745-79B42C257E1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970880-FB58-4E1C-9EC2-C3A0DA11075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2B84C2-0793-4399-BAD0-CFBB997D491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35AB9-6809-48DD-A031-C6A29404701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40908-33DB-46F7-BF97-77C7A5A4F23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984F5-9AE0-41DB-B390-ED8D908007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7E49D-D93C-47C7-906C-1DCE9EA5A79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6D220-0D77-43D6-9FC1-9EB5F8AB7F1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00F1B-6B1B-48C6-ACA7-3239A680E03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FC7ED-7156-423E-842B-FCA0BB0F762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AA0F4-3572-4A77-8A10-B6DCBD9FBEB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52CA7-26DB-4CB1-BFD1-F016DDE26CD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95377-5FB9-4929-9143-31460A9F2E5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660BC-A8DC-495B-AF25-7353254DD66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5301C-8631-4375-B903-FF9E623A1D5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1B5F6-FACD-403C-BE7E-8258BFB3958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55ACE-0409-4D4C-A1E2-66E226D79E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F993-1BD6-49C3-B7C0-8EDED80C812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BF1ED-5CAC-4A8A-AA13-DF23E90B8B1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37C78-C825-4355-A85C-A71A12DD64A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274CD-23D9-4012-83FA-826AC51E639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B7CC9-E60A-4231-8389-CEA19627F46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A7DD-AB58-4B8B-9880-3B5B38F4AFE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C49F9-2926-4272-BA22-41022A8F7AA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DCA51-03EE-439B-B05F-04CBC236A4E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B43C-8833-422F-B65F-EE4668885ED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8A36E-4742-44D6-9E7E-10C02814A18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239B2-B3AD-4C3D-A4C5-0AFAB0D44B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6DD5-D3FF-464A-A661-545A63F1F41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F9242-10FF-4FC0-80CB-09EA3BBD53F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374F50-2CDD-4F41-ABBA-65356100A9F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3B9BCF-A106-4AB8-9FCA-061ECA20275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FACA7D-65C5-49E1-AA24-A1E91CCFEF2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901992-1D80-4BBF-BA19-768C9FB2C0D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77506E-8AA7-4501-A572-587AC49CA8F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483EAB-4F2C-447D-A1EA-8D8E8726ADC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352A11-1AD6-4FDE-A91C-7465E2C836E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12DAF-E1F0-4EB9-AD50-A56D4D893A8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0A66C8-275D-44AA-957D-5EAA77550D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243C7-7BA8-4B3C-AE22-E38CAACECDA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7FF0D1-1B63-4750-BAEE-D6C2FA0EB70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F24F30-028F-4D81-9B83-26E4259EDE7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A94237-C3DC-409F-A2AC-FFA3CEC5782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17C64-8304-4904-81CD-FDD4584E55F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94C81-E4BF-472E-AF95-957234735D9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A1BAFC-F803-4772-A518-88E8E10B339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69467-F561-4107-99BE-2403B5DE2F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3636C-3DC7-4867-9489-0F16BE55A77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D21AB-FB99-4A75-A748-CAE089C821E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98F97-ED77-41D0-A5F3-BC6D510111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E892-6276-4FF4-8F2B-398FCF438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9DA46-8C35-4B81-B8D5-51692AAF69A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CA7D7-8C4E-4F8C-9D76-DC7E6E0A3A0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08E38-0B19-440E-BF1A-22D7A3BF80B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FEDCD-1BBC-4FAD-A27E-EEC84E9837A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F95AF-7C1D-4DB8-988D-B9F5349B366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AEEE8-F2CE-4012-8F7D-19C5AC1CCD5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F405C-B732-4176-84C6-08664E2B923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5DD9D-CB52-43CD-A9D9-4ADD4BBB130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3B3D0-F26C-4ECF-ADD5-59067505A65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2D0DD-4436-49FE-B65B-4442415D4B2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B529C-B470-45BB-B6D4-459B163941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E283-BDEF-4E41-82A0-1DD814F4749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2595D-D64C-472F-9052-A063C12C563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698E4-AC62-4C70-B09D-956E3F39ED9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2A6F1-41B4-450F-BC96-E51B977B1F2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DDC36-AF6A-4992-904E-F76C48A68D8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6FC70-726E-44C3-9FE8-82FFAA05942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EA2DB-D06B-4AED-ACF6-766024B1501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A92C-BB09-4ACA-BCFD-A9B2A3B1069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34B684-3A28-4CBA-8BF7-E67E7DB8953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F96FB3-29F5-46EC-82DD-DCA2B27CB33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7A21EA-4659-425C-85B1-5953DDFB08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8435-824D-42FD-B3E4-A8FD980D1EE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A99792-E113-44B6-B8D9-62D232E3471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20E3B6-BCE5-4383-AD5D-41B0C64210F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B2C049-6A8C-4839-A284-B7F6FB3EEEC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772716-593F-4D6C-8F28-20C67A52899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C4BEF7-6BD1-439D-AE24-FC4C7187109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7B52E3-5FC7-47CB-929E-10A22FE287F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A61A5-8E47-47CF-B2BC-5878554BCB4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CC612E-7074-4BCA-82B7-624EBD1B7B9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034901-F8F6-48FD-AB3D-45D743508DE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EA557-29B2-4160-88EA-0DD8FF1445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7AD8-1FBE-4252-9B22-E363810F924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90381-DFD8-43DC-AC96-1A3511E7B3C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729AE-D8C3-4876-807F-820E86393BD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54BF0-177A-4397-BF69-6964395EACE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B2739-4E65-4637-B783-95884BE5C86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BD931-97FD-4BAA-8684-626B2D171BF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077995-6610-4DE0-93BD-4EFBDF16B0F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DDC8B-0672-4796-B5AF-517E6667898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DC766-F9CC-407C-B247-BFF546C030B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3D084F-67BA-448F-B30F-C5B6C22B29D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EFF2E-A775-4E8A-984B-41A9B64748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E488-48B3-4C21-8B03-01A10CCE348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8BAAE7-B9D7-4BE2-B0A0-47E102E4CBB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623B6-3468-4ECF-B4B5-3A9B5213089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B40CE-BA96-4115-A94C-7982A8602E4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F6C69-EA2E-4933-B8AB-B7C504A56B4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E7BE8-A8B2-4469-BD57-EC5DA16DCA6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52EFC-69B7-44E9-9589-461A3F5AB9C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B3D5F-858E-4C4F-B267-A4E0466CCB4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931E-7352-4410-95A3-D8CAE333387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6C53D-2265-4B99-B97A-4AC9F957E15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0A0CE-C6E7-4F11-81B5-59E9679643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36B-F1A7-4318-9B64-8B486E3C12D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F1EC6-52E5-4036-923C-FD58A10C566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0FA55-48D5-406B-BBBC-102936B97E9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70108-2A35-4CBC-9DD2-09B113408D3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7AEA4C-50C5-4827-8D32-58F3040CFAF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69D3DD-964E-4C9B-9287-7B81B7CE93A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36FB24-9CF7-4B4D-9996-B64D40021C8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7BB816-EBD0-43B3-A910-06E260EE379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E4C909-3588-4678-B6CD-5C33ED54294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3675C6-B1D7-4465-BA51-FCB4D272C29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ED6D59-04AD-4E62-8ACD-0F9C2F8BE6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0D0-C202-4DE5-BFCF-0734C97D3C8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970D43-1BD8-4210-AA77-9D5A212E403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52B416-0C82-4BCB-B18B-8B33995503E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6FC3CD-FA34-4FFE-8126-E4137DCC80A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350F82-CFDD-4181-B969-F59442861FF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57AFAD-D2A2-4EC5-A775-B65404BFA99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1A40CB-B7BE-401E-B3D1-13A473D1685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B3A27B-489A-45AD-BD1B-9B5C2C465B7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75C846-5A5F-419C-A3FD-CDAAD5FD964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97895-18A5-412F-97C2-4DB2E5EA2C2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335F3A-961E-47F9-9AD3-A279A052E7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FB7-4E86-4C55-B37B-4C1690D6642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1F483C-695A-487F-8CC6-055AB8AAC1A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FD4FB2-638C-4FE5-804D-98EA0924F54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B5B40-F059-4B6A-8F35-8163F505F1E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2412B8-8400-4096-B65B-2FCCAD64DDF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1396F2-48CB-4A14-BFAC-56AB0349475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9BD5D9-820A-4F16-9051-5D2EC04B3F9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21902A-A82A-42BD-A1BB-35442932C20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01DBA-983B-49A2-B21B-F658952B987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46BC8-955A-47F8-803C-0535C8348CD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D2348-8377-4A3C-95B6-9301BA5365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931-D206-4E73-A9F6-598F0D15AE3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63AFD-9B09-4021-9901-A34FFC3B3C4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D1112-BE5A-43D2-85D4-8950EC0C5F1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68625-3A8A-453E-8EBA-716DA644BD0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D1E8F-BC73-414E-80E4-23E4B638FD5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8D9BF-6AAD-4815-9A77-8C977448333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E023F-3373-4128-BE30-F8BB1E66C44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339C0-138A-411F-AF81-9136A2E12B3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E8986-9D74-41A0-AB61-4490FDFB090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F11C8-539A-46F8-A8D3-0E71C09FD4C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45DC7-039D-4C24-9631-467485405A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311-38C9-40D6-BA23-FF7DF0C5C8E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3A1EB-65B4-4182-868D-C5EB892DD63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057D2-57FA-4933-8D9F-6DFA48D2677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6580C-E897-4049-82C5-C7C5D63E390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75616-BA3E-4135-BBFA-B76CBC030A2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219C6-2127-4CD0-B2D1-44CFDC7991C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B1A0E-F540-4131-AEBA-E50251324BE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FC5BD-4E63-4EA9-9C75-DD2109B4571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0B09B-9BA5-4FC3-AAB7-4F8AB70E3FC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96160-8FA6-4C24-8414-D59987AE5EE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7C986-7995-4AE5-99A9-368B079B7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4723-A7F0-49AA-9839-9D478C8A20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B87-B3A7-4E09-8ACC-A03EC36068E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73AFB-ABF9-42CD-B715-B99EA19DE66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91ED49-4365-42C7-AF35-E08F61B35F6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2A076D-C7A9-475B-8044-F5C02F08C2A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B9B5A5-2700-4EF7-8BF3-829DF8494E6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827475-8B17-4DB5-AF46-E4942AF3D0B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1D94FC-A270-472C-94E0-DE28955A287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39EA2E-9FD7-4DC2-A0F3-33E9F652E98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06422B-64B2-4E67-ACCF-FB3D04BCE30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34453A-A1F5-4D9D-9877-8BDDB65CB07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8411C9-2461-45B9-B903-AD8DA0525E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011-9B8F-4155-9202-C17D4B634D8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7433DA-0184-4781-9BB2-159D953222F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609B19-0BE8-44F3-809D-05483D8747C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24EB64-DB45-4EB7-A923-D422CF8F133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DF1B9-DE25-425E-A03B-18D9718E284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AD807-A8F8-48C9-A380-DDED0E015FB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BCF07-04FB-4BA4-9BB6-3642AB86587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2A5B1-3CC9-439D-9527-A9FAB8CF4FE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70C7D-D739-404E-B809-4769C9710A3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C3F11-5BB2-4B7E-9994-FEC2CBD56D4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AE121-913F-43DA-94F5-A1BEB5CCEC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0BE-41FC-477D-A3C7-144DE7ACDDD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F0D59-0615-4FE5-91A3-5B2CD77B93B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83605-AEBD-4F4B-87A0-15641F26083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25CBE-1EC3-426D-BEE4-6BD79D3A7E4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CA582-8D89-4161-97D1-0C1E84B9CCD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D2861-968A-464A-B067-C188764F41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809-3F39-4D40-901A-7CB7C55F16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627-648B-4DFC-A33C-821C46645D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7E9-5BB6-47B5-A076-ABD4B1C399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DEE-C3B3-4882-A5BC-D7AA180682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6EB7F-368A-4F9A-A1B7-5084FDEAB1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57484-2015-449F-BB20-015233E03C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2F027-B1C5-433F-85C5-D57305739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E637-BBCB-47AB-BBEF-8BAA7A8610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1EEDB-F71C-4129-95FC-8DE42A39F5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10D21-53F4-482C-A49E-50C0732B8A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8908A-C4E2-4C3A-8639-CA53FC4167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4AAF0-DE90-4FDF-A851-3006EF1E72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084C5-E702-48B8-8FC6-A247CE4645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3DE7A-7C78-4FF1-AE91-0912D1A1A5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25B2A-C38D-4CC4-9BCA-3FA872D968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5EDF5-673D-44D4-98CF-3E03653194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EACB7-88DE-4699-A56C-D58394DEDB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80939-5141-48D0-BE6C-D4D5371CB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E531-3F5D-4F99-BE58-A808826D1AE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79AB8-C9A2-4E7A-97DD-305BA38D44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36A60-CCFB-4552-BA3E-A9AA6F3A25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B2401-3488-4ACE-A940-4B9071CEAD0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4AA07-9685-4914-8812-088A2776DB7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B554B-6C11-4FD2-817F-C26EE7579F6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66DE7-53AF-47B5-B7F1-7CCFEAC476F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4192E-68A1-4256-A03A-0414F0BC264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858E5-E920-4B2C-86BB-5CDDBADDC8D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22FD8-AF43-4FE4-962D-278563A7D18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765EA-C6DA-4521-B56C-9FD5E0F22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08C6-22F9-4ACA-8B0C-21CB459D7F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04E49-E3C9-4CB5-8FF2-CEFB10C9C5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12AE-0ADE-4B07-8D9F-44FC431F95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26FF-9EEB-477E-A352-6E560363B82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C779-2486-4A2F-8850-0960DFFF5E0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5219-8AC1-49D0-A252-59480FD1944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9428-9B02-45E7-BBA5-2C97A8EC5AE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C750-4B37-4EF9-8D2F-31BE4CD2A2F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1CED-69B5-4AF9-80F4-09986EC31A1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794E-2428-4E37-987F-62D33F1084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03B7-967F-457D-86A1-31E6F7B00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F680-E0B8-422E-9FAB-90D66EB2C9C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02C3-39DB-4088-8A50-50CECF97F4C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33C7-1FF5-4F8C-AB03-5ED25538CB0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312E-3545-42C9-97D1-C04A72F6CE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3E5DF6-1E1F-44C0-8023-916229A3CA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F13A8-C692-4ECD-A582-7B282CBB375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CB555C-3D81-4BA0-87B6-6190A41D707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D36C6-1A98-4162-8BE6-1154DFCD24A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7FABA-E669-47F0-969F-9109AF12806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D5BF2F-5CA5-4E05-8AE2-7FF06DE053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CA1A9E-8FEE-40EC-BA25-A8E470537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53D0-8F00-49C8-81AC-8CB03B15E5F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03040C-BD46-42B6-A8A6-A46D987B3D8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D5ACD2-2BEE-4FA4-96FF-165B4E97F3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0C790F-32D4-430F-A5AD-ACC8562314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3212FE-6523-4EDD-B9A8-41461A6A31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93DCD-0FD7-4037-B8AD-F63D6304AA3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769A0-0BD8-4B3E-A534-534409C8913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3500E-2514-4F80-8246-B5F1FD4038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6709E-8888-4975-A2EC-AF511B19557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F6690-F7F0-48EC-8068-85C97EA53C8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B9E3B-25F1-46F1-8088-F449C7F03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44E5-4363-43EB-A1CF-B2894897EC5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4508C-5D65-4E48-834F-BB9CEF53579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D1DC2-9377-4FFC-B855-B13924E7E1E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30869-00B4-4344-9ED8-10A2321215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B4E45-C305-4EE3-A582-ECD2E664315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4882C-17F3-49E3-B023-53F32DDF7DB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03194-3F38-47DE-8F44-B8992674BE2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E8A8A-8D0C-4A26-85A5-9A85315FB95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5E64-F10A-4C56-B1B8-377C2BCF10F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8CB4-BE4A-4335-9F6A-EF0F45F2DC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164B-17B5-4F28-A113-20809C5BD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6560" y="6495840"/>
            <a:ext cx="2653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BDC17-DE1C-4CB6-B814-750DC429BE9E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4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Shape 6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Shape 8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128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385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Shape 127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131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88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Shape 130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49F46-80F9-465E-8B29-B1756DC59F14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142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430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Shape 140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Shape 141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1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016FE-B079-44C2-AF15-C2D2B285B18D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152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473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Shape 151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5" name="Group 155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476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Shape 154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12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6B541-2CE5-43E0-AD4D-DBA6DB00D186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169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518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Shape 167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Shape 168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3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6BEA8-AEB7-497C-9835-A8037DA35224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182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561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Shape 181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Group 185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564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Shape 184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14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ED4C2-B61C-41B6-8440-65C594F8A43B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hape 195"/>
          <p:cNvSpPr/>
          <p:nvPr/>
        </p:nvSpPr>
        <p:spPr>
          <a:xfrm>
            <a:off x="955800" y="653724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88888"/>
                </a:solidFill>
                <a:latin typeface="Calibri"/>
              </a:rPr>
              <a:t>10/12/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196"/>
          <p:cNvSpPr/>
          <p:nvPr/>
        </p:nvSpPr>
        <p:spPr>
          <a:xfrm>
            <a:off x="41400" y="6527880"/>
            <a:ext cx="7887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Group 200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608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Shape 19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Shape 199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15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AB47B-21EA-43B7-B7D5-C7723597B0EC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12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651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Shape 211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Group 216"/>
          <p:cNvGrpSpPr/>
          <p:nvPr/>
        </p:nvGrpSpPr>
        <p:grpSpPr>
          <a:xfrm>
            <a:off x="3614760" y="6411960"/>
            <a:ext cx="5527800" cy="456840"/>
            <a:chOff x="3614760" y="6411960"/>
            <a:chExt cx="5527800" cy="456840"/>
          </a:xfrm>
        </p:grpSpPr>
        <p:pic>
          <p:nvPicPr>
            <p:cNvPr id="654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Shape 214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Shape 215"/>
            <p:cNvSpPr/>
            <p:nvPr/>
          </p:nvSpPr>
          <p:spPr>
            <a:xfrm>
              <a:off x="4205520" y="6472440"/>
              <a:ext cx="4901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16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5C1B4-E2A0-4D95-A281-526582DDFAC4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sldNum" idx="17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53014-CFC2-4A31-AD58-5968B6A0AD74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18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A17D6-658F-4676-8A18-2DEAA7651492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sldNum" idx="19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3A315-8D1D-47B5-859E-E0F8F2924766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826560" y="6495840"/>
            <a:ext cx="2653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57F4C-4291-4617-B0C6-1A159A84A1D0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15CD6-38A8-462E-BFCC-97F5AA6D18C3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Num" idx="21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5E1F1-A9C8-4888-911D-A60B137F89A0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sldNum" idx="22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34A30-CBCB-4BEF-97F1-7FC2F014BD4F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sldNum" idx="23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D2629-1556-45EE-8AB0-13C049C2D2AD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24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99C44-10A8-4605-8A51-8F6A8B4122BA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sldNum" idx="25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C94B5-C89A-40D0-AC48-BEB5B5B82455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sldNum" idx="26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059ED-713F-4861-A718-5A7CFD31B08F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7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2EADB-91C8-4C2C-8A3D-D3C786A655C1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1.gif" descr=""/>
          <p:cNvPicPr/>
          <p:nvPr/>
        </p:nvPicPr>
        <p:blipFill>
          <a:blip r:embed="rId2"/>
          <a:stretch/>
        </p:blipFill>
        <p:spPr>
          <a:xfrm>
            <a:off x="8639280" y="6486480"/>
            <a:ext cx="390600" cy="371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826560" y="6495840"/>
            <a:ext cx="2653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DB153-8F38-45B6-B1D3-92A2E8CC17DD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49"/>
          <p:cNvGrpSpPr/>
          <p:nvPr/>
        </p:nvGrpSpPr>
        <p:grpSpPr>
          <a:xfrm>
            <a:off x="3614760" y="6411960"/>
            <a:ext cx="5527800" cy="456840"/>
            <a:chOff x="3614760" y="6411960"/>
            <a:chExt cx="5527800" cy="456840"/>
          </a:xfrm>
        </p:grpSpPr>
        <p:pic>
          <p:nvPicPr>
            <p:cNvPr id="123" name="image1.gif" descr=""/>
            <p:cNvPicPr/>
            <p:nvPr/>
          </p:nvPicPr>
          <p:blipFill>
            <a:blip r:embed="rId2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Shape 47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Shape 48"/>
            <p:cNvSpPr/>
            <p:nvPr/>
          </p:nvSpPr>
          <p:spPr>
            <a:xfrm>
              <a:off x="4205520" y="6472440"/>
              <a:ext cx="4901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826560" y="6495840"/>
            <a:ext cx="2653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495C1-B35D-48E0-A402-9F93C8B4EFBF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62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166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Shape 60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Shape 61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5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F501F-32D5-4352-BF1B-173AF5A2CBC5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74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209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Shape 73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77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212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Shape 76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6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FC002-EA24-4683-9DDA-4DCAEBCDC58C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90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254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Shape 8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Shape 89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7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98778-D00E-4452-89C4-E3AC5CBF142E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102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297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Shape 101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105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00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Shape 104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8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A044F-2845-421D-9E69-DBAAF31FA9BB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17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342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Shape 115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Shape 116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9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50EF7-0546-456B-86ED-1F7377F9A889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alibri"/>
                <a:ea typeface="Calibri"/>
              </a:rPr>
              <a:t>Training Module CPG T1DM - Complications of T1DM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854440" y="4078080"/>
            <a:ext cx="5656320" cy="201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Dr. Janet Hong Yeow Hu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Consultant Paediatric Endocrinolog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Hospital Putrajaya, Putraja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image2.png" descr=""/>
          <p:cNvPicPr/>
          <p:nvPr/>
        </p:nvPicPr>
        <p:blipFill>
          <a:blip r:embed="rId1"/>
          <a:stretch/>
        </p:blipFill>
        <p:spPr>
          <a:xfrm>
            <a:off x="757080" y="2992320"/>
            <a:ext cx="2071800" cy="3195720"/>
          </a:xfrm>
          <a:prstGeom prst="rect">
            <a:avLst/>
          </a:prstGeom>
          <a:ln w="0">
            <a:noFill/>
          </a:ln>
        </p:spPr>
      </p:pic>
      <p:sp>
        <p:nvSpPr>
          <p:cNvPr id="1128" name="Shape 327"/>
          <p:cNvSpPr/>
          <p:nvPr/>
        </p:nvSpPr>
        <p:spPr>
          <a:xfrm>
            <a:off x="369000" y="65239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454A7-D8FC-4941-9BC0-05DBA98A1955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uropathy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28560" y="1844640"/>
            <a:ext cx="788688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Based on nerve conduction study, 57% of children with a mean diabetes duration of 8.1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2.6 years &amp; mean HbA1c of 9.0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1.0% had diabetic neuropathy.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130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Using nerve conduction study as a gold standard, the sensitivity &amp; specificity of </a:t>
            </a:r>
            <a:r>
              <a:rPr b="1" sz="2800" spc="-1" strike="noStrike">
                <a:solidFill>
                  <a:srgbClr val="000000"/>
                </a:solidFill>
                <a:latin typeface="Calibri"/>
              </a:rPr>
              <a:t>vibration perception 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thresholds were 62% &amp; 65% respectively, while the sensitivity &amp; specificity of </a:t>
            </a:r>
            <a:r>
              <a:rPr b="1" sz="2800" spc="-1" strike="noStrike">
                <a:solidFill>
                  <a:srgbClr val="000000"/>
                </a:solidFill>
                <a:latin typeface="Calibri"/>
              </a:rPr>
              <a:t>tactile perception 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thresholds were 19% &amp; 64% respectively.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1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1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30. Nelson D, et al. Pediatr Diabetes. 2006;7(6):305-3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hape 363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0A117-6FD0-44ED-8D2B-662647C700DB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Macrovascular complication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24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ortic intima media thickness is greater in T1DM children compared with control subjects (p&lt;0.001)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131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Vascular function is worse in children with T1DM who have an aortic intima media thickness &gt;95th percentile compared with control subjects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actors independently correlated with carotid intima media thickness in children are: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1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type 1 diabetes (p&lt;0.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systolic blood pressure (p&lt;0.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LDL cholesterol level (p&lt;0.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0">
              <a:lnSpc>
                <a:spcPct val="81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31. Harrington J, et al. J Pediatr. 2010;156(2):237-24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32. Järvisalo MJ, et al. Diabetes. 2002;51(2):493-4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hape 367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28E43-3069-4475-9C4D-19A81C90DC0D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28560" y="260280"/>
            <a:ext cx="7886880" cy="82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sz="2500" spc="-1" strike="noStrike">
                <a:solidFill>
                  <a:srgbClr val="000000"/>
                </a:solidFill>
                <a:latin typeface="Calibri"/>
                <a:ea typeface="Calibri"/>
              </a:rPr>
              <a:t>Screening, risk factors &amp; interventions for vascular complications in T1DM 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0" name="Shape 370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3B956-4267-4BF7-9747-F53E89A713F3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1" name="image3.png" descr=""/>
          <p:cNvPicPr/>
          <p:nvPr/>
        </p:nvPicPr>
        <p:blipFill>
          <a:blip r:embed="rId1"/>
          <a:stretch/>
        </p:blipFill>
        <p:spPr>
          <a:xfrm>
            <a:off x="407880" y="1052640"/>
            <a:ext cx="8210520" cy="5746680"/>
          </a:xfrm>
          <a:prstGeom prst="rect">
            <a:avLst/>
          </a:prstGeom>
          <a:ln w="0">
            <a:noFill/>
          </a:ln>
        </p:spPr>
      </p:pic>
      <p:sp>
        <p:nvSpPr>
          <p:cNvPr id="1162" name="Shape 372"/>
          <p:cNvSpPr/>
          <p:nvPr/>
        </p:nvSpPr>
        <p:spPr>
          <a:xfrm>
            <a:off x="551880" y="6527880"/>
            <a:ext cx="80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200" spc="-1" strike="noStrike">
                <a:solidFill>
                  <a:srgbClr val="000000"/>
                </a:solidFill>
                <a:latin typeface="Calibri"/>
              </a:rPr>
              <a:t>Modified: </a:t>
            </a:r>
            <a:r>
              <a:rPr b="0" sz="1200" spc="-1" strike="noStrike">
                <a:solidFill>
                  <a:srgbClr val="000000"/>
                </a:solidFill>
                <a:latin typeface="Calibri"/>
              </a:rPr>
              <a:t>International Society for Pediatric and Adolescent Diabetes (ISPAD).Pediatic Diabetes. Oxford:  Wiley  Blackwell;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Shape 374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CC175-4CEE-46B3-A65C-7180DC90A503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4" name="image4.png" descr=""/>
          <p:cNvPicPr/>
          <p:nvPr/>
        </p:nvPicPr>
        <p:blipFill>
          <a:blip r:embed="rId1"/>
          <a:stretch/>
        </p:blipFill>
        <p:spPr>
          <a:xfrm>
            <a:off x="469800" y="2133720"/>
            <a:ext cx="8266320" cy="24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404640"/>
            <a:ext cx="7886880" cy="75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Dyslipidaem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3000" y="1349280"/>
            <a:ext cx="7886520" cy="495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Young patients with T1DM demonstrate significantly higher levels of total cholesterol, LDL, triglyceride, lipoprotein(a) &amp; apolipoprotein B compared with non-diabetics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Screening for dyslipidaemia should be done soon after diagnosis in all children with T1DM aged &gt;10 years old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-264960">
              <a:lnSpc>
                <a:spcPct val="72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If the result is normal, it should be repeated every 5 yea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-264960">
              <a:lnSpc>
                <a:spcPct val="72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In those with strong family history of hypercholesterolaemia, premature cardiovascular disease or if the family history is unknown, screening should be performed as early as 2 years o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f the LDL is high (&gt;2.6 mmol/L), intervention to improve metabolic control, dietary changes &amp; exercise should be emphasised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-264960">
              <a:lnSpc>
                <a:spcPct val="72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Although long-term safety is not established, statin should be considered in children &gt;10 years old if LDL is &gt;4.1 mmol/L (or &gt;3.4 mmol/L if one or more cardiovascular risk factors is present) despite the above interven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0">
              <a:lnSpc>
                <a:spcPct val="72000"/>
              </a:lnSpc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0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34. Glowinska B, et al. Atherosclerosis. 2003;167(2):275-2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hape 379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8FF31-ADD6-4D02-AE60-41C967D290F3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Shape 381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BB9F2-E2FB-4E37-AB0A-584510ACF734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9" name="image5.png" descr=""/>
          <p:cNvPicPr/>
          <p:nvPr/>
        </p:nvPicPr>
        <p:blipFill>
          <a:blip r:embed="rId1"/>
          <a:stretch/>
        </p:blipFill>
        <p:spPr>
          <a:xfrm>
            <a:off x="371520" y="2421000"/>
            <a:ext cx="840096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747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Hypertens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7886880" cy="446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5360" indent="-22536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sz="2700" spc="-1" strike="noStrike">
                <a:solidFill>
                  <a:srgbClr val="000000"/>
                </a:solidFill>
                <a:latin typeface="Calibri"/>
              </a:rPr>
              <a:t>Hypertension is defined as average systolic BP &amp;/or diastolic pressure (measurements on ≥3 occasions) &gt;95</a:t>
            </a:r>
            <a:r>
              <a:rPr b="0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sz="2700" spc="-1" strike="noStrike">
                <a:solidFill>
                  <a:srgbClr val="000000"/>
                </a:solidFill>
                <a:latin typeface="Calibri"/>
              </a:rPr>
              <a:t> percentile for gender, age &amp; height on 3 occasio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sz="2700" spc="-1" strike="noStrike">
                <a:solidFill>
                  <a:srgbClr val="000000"/>
                </a:solidFill>
                <a:latin typeface="Calibri"/>
              </a:rPr>
              <a:t>Confirmation of hypertension may be assisted by 24-hour ambulatory BP measurements. Pre-hypertension is defined as BP that is between 90</a:t>
            </a:r>
            <a:r>
              <a:rPr b="0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sz="2700" spc="-1" strike="noStrike">
                <a:solidFill>
                  <a:srgbClr val="000000"/>
                </a:solidFill>
                <a:latin typeface="Calibri"/>
              </a:rPr>
              <a:t> &amp; 95</a:t>
            </a:r>
            <a:r>
              <a:rPr b="0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sz="2700" spc="-1" strike="noStrike">
                <a:solidFill>
                  <a:srgbClr val="000000"/>
                </a:solidFill>
                <a:latin typeface="Calibri"/>
              </a:rPr>
              <a:t> percentile.</a:t>
            </a:r>
            <a:r>
              <a:rPr b="0" sz="27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sz="2700" spc="-1" strike="noStrike">
                <a:solidFill>
                  <a:srgbClr val="000000"/>
                </a:solidFill>
                <a:latin typeface="Calibri"/>
              </a:rPr>
              <a:t>ACEi are recommended for use in children with diabetes &amp; hypertension.</a:t>
            </a:r>
            <a:r>
              <a:rPr b="0" sz="27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26820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They have been shown to be effective &amp; safe in children in short-term studies but are not safe during pregna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hape 386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2638F-1820-4C98-89BE-CAF54B678728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Shape 388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7BCB8-5532-4A7F-9EC3-03614F8B3AC7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4" name="image6.png" descr=""/>
          <p:cNvPicPr/>
          <p:nvPr/>
        </p:nvPicPr>
        <p:blipFill>
          <a:blip r:embed="rId1"/>
          <a:stretch/>
        </p:blipFill>
        <p:spPr>
          <a:xfrm>
            <a:off x="333360" y="2863800"/>
            <a:ext cx="8501040" cy="12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28560" y="4478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Limited joint mobilit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2856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0680" indent="-22068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Limited joint mobility (LJM) is a bilateral painless contracture of the finger joints &amp; large joints, &amp; associated with tight sk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t can be demonstrated by asking the patient to approximate palmar surfaces of the interphalangeal joi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25600" indent="-26208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Passive examination is essential to confirm that inability to do so is due to LJ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This deformity usually appears after the age of 10 yea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25600" indent="-26208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The progression from mild to moderate or severe changes ranges from a few months to four years, following which stabilisation occu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or every unit increase in average HbA1c, there is an approximately 46% increase risk of developing LJ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25600" indent="-26208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LJM is associated with a 2- to 4-fold risk for retinopathy, nephropathy &amp; neuropathy.</a:t>
            </a:r>
            <a:r>
              <a:rPr b="0" sz="2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393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ECAD0-2964-4238-967B-4BAF3595BF38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28560" y="487440"/>
            <a:ext cx="7886880" cy="111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Calibri"/>
                <a:ea typeface="Calibri"/>
              </a:rPr>
              <a:t>Lipodystrophy </a:t>
            </a:r>
            <a:br>
              <a:rPr sz="3600"/>
            </a:br>
            <a:r>
              <a:rPr b="1" sz="3600" spc="-1" strike="noStrike">
                <a:solidFill>
                  <a:srgbClr val="000000"/>
                </a:solidFill>
                <a:latin typeface="Calibri"/>
                <a:ea typeface="Calibri"/>
              </a:rPr>
              <a:t>- lipoatrophy &amp; lipohypertrophy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24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16000" indent="-21600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t has been found up to 48% in those with T1DM &amp; is associated with higher HbA1c, greater number of injections &amp; longer duration of diabe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The independent risk factors for lipohypertrophy are: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57400">
              <a:lnSpc>
                <a:spcPct val="90000"/>
              </a:lnSpc>
              <a:buClr>
                <a:srgbClr val="000000"/>
              </a:buClr>
              <a:buFont typeface="Courier New"/>
              <a:buChar char="o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lack of rotation in injection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57400">
              <a:lnSpc>
                <a:spcPct val="90000"/>
              </a:lnSpc>
              <a:buClr>
                <a:srgbClr val="000000"/>
              </a:buClr>
              <a:buFont typeface="Courier New"/>
              <a:buChar char="o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use of small injection z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57400">
              <a:lnSpc>
                <a:spcPct val="90000"/>
              </a:lnSpc>
              <a:buClr>
                <a:srgbClr val="000000"/>
              </a:buClr>
              <a:buFont typeface="Courier New"/>
              <a:buChar char="o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reuse of nee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nsulin may be absorbed unpredictably from these areas, affecting BG contr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Treatment of lipohypertrophy involves avoidance of the affected sites for at least 2 - 3 months, while prevention strategies include avoidance of its risk factors as mentioned above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397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80EC1-D36A-4953-90CF-CFA79A8F7323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6206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nderstand complications of T1DM &amp; thei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know criteria of referral for T1DM to paediatric endocrinologists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hape 331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EE889-A574-40B3-9C50-F1296389FDD3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28560" y="6206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Referra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Shape 400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9A542-E015-4A55-AC5E-963352E1482E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3" name="image7.png" descr=""/>
          <p:cNvPicPr/>
          <p:nvPr/>
        </p:nvPicPr>
        <p:blipFill>
          <a:blip r:embed="rId1"/>
          <a:stretch/>
        </p:blipFill>
        <p:spPr>
          <a:xfrm>
            <a:off x="345960" y="1844640"/>
            <a:ext cx="84646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omplications of T1DM should be identified &amp; treated according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creening schedule for the complications is proposed in the CP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ferral of T1DM to paediatric endocrinologists are based on certain criteria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600" spc="-1" strike="noStrike">
                <a:solidFill>
                  <a:srgbClr val="3333ff"/>
                </a:solidFill>
                <a:latin typeface="Calibri Ligh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Shape 408"/>
          <p:cNvSpPr/>
          <p:nvPr/>
        </p:nvSpPr>
        <p:spPr>
          <a:xfrm>
            <a:off x="329400" y="65239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8A18C-F590-4D5E-B8D6-CE734DA5294A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28560" y="6206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s of T1DM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28560" y="1828800"/>
            <a:ext cx="7886880" cy="419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In Malaysia, T1DM patients of &gt;10 years old: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microalbuminuria (7.3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nephropathy (3.2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retinopathy (2.4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neuropathy (0.8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It is important to maintain good glycaemic control in patients with T1DM to prevent long-term complic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4. Fuziah MZ, et al. Kuala Lumpur: DiCARE;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hape 335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96516-FAE6-42AE-A351-6E8AECFA5DB9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phropathy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Risk factors for microalbuminuria are: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1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ypertension (p=0.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igher HbA1c levels (p=0.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longer diabetes duration (p=0.03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dyslipidaemia (p=0.03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27. Demirel F, et al. J Clin Res Pediatr Endocrinol. 2013;5(3):145-14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hape 339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F9ED5-10A6-4A4B-A592-C9CE0241B859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phropathy</a:t>
            </a:r>
            <a:r>
              <a:rPr b="1" sz="2000" spc="-1" strike="noStrike">
                <a:solidFill>
                  <a:srgbClr val="000000"/>
                </a:solidFill>
                <a:latin typeface="Calibri"/>
                <a:ea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18680" y="1844280"/>
            <a:ext cx="83660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The first clinical sign of nephropathy is elevation of albumin excretion. This is generally defined as any of those below: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ER of 20 - 200 μg/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ER of 30 - 300 mg/24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lbumin concentration of 30 - 300 mg/L (early morning urine sampl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CR 2.5 - 25 mg/mmol in males &amp; 3.5 - 25 mg/mmol in females (early morning urine sample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8. International Society for Pediatric and Adolescent Diabetes (ISPAD). Oxford: Wiley  Blackwell;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hape 343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021D3-E309-4053-851F-D82A04897764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phropathy</a:t>
            </a:r>
            <a:r>
              <a:rPr b="1" sz="2000" spc="-1" strike="noStrike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28560" y="1844640"/>
            <a:ext cx="7886880" cy="410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Spot urine ACR is closely correlated with 24-hours urine albumin excretion in patients with T1DM (R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=0.828, p&lt;0.001).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Because of biological variability, 2 of 3 consecutive urine collections over a period of 3 - 6 months should be used as evidence of microalbuminu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bnormal screening tests should be repeated as microalbuminuria may not be persistent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28. Chae HW, et al. J Korean Med Sci. 2012;27(7):784-78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hape 347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8046C-A8D8-41B7-9716-FB86E82E5270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28560" y="6206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phropathy</a:t>
            </a:r>
            <a:r>
              <a:rPr b="1" sz="2000" spc="-1" strike="noStrike">
                <a:solidFill>
                  <a:srgbClr val="000000"/>
                </a:solidFill>
                <a:latin typeface="Calibri"/>
                <a:ea typeface="Calibri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28560" y="1844640"/>
            <a:ext cx="7886880" cy="410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When interpreting urine microalbuminuria, false positive results should be considered which may occur in the following conditions: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menstrual bl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nf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kidney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marked hyperglyca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hape 351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C3752-5B76-42BE-8089-6D950235240D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phropathy</a:t>
            </a:r>
            <a:r>
              <a:rPr b="1" sz="2000" spc="-1" strike="noStrike">
                <a:solidFill>
                  <a:srgbClr val="000000"/>
                </a:solidFill>
                <a:latin typeface="Calibri"/>
                <a:ea typeface="Calibri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28560" y="1844640"/>
            <a:ext cx="7886880" cy="410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ACEi or ARB should be used in adolescent patients with persistent microalbuminuria to prevent progression to proteinuria.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dolescent girls need to be informed about the potential risk of congenital malformation when used during pregnancy &amp; advised on contraception before starting medication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Patients with transient microalbuminuria generally do not need to be treated with ACEi or AR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Shape 355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F36BB-CFEA-49B9-98A4-25D72AA8E8DB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Retinopathy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Assessment for retinopathy in patients with T1DM should be performed by an ophthalmologist or any trained healthcare provider through dilated pup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nitial eye examination should also be considered to detect major refractive errors or catarac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The frequency of retinopathy screening in general should be done annually &amp; more frequently if there are high risk features for visual los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hape 359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DFBF2-85DF-485D-9D06-645E2AD8BE2A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Amin</dc:creator>
  <dc:description/>
  <dc:language>en-US</dc:language>
  <cp:lastModifiedBy>DrAmin</cp:lastModifiedBy>
  <dcterms:modified xsi:type="dcterms:W3CDTF">2017-01-09T08:07:53Z</dcterms:modified>
  <cp:revision>4</cp:revision>
  <dc:subject/>
  <dc:title>Training Module CPG T1DM - Complications of T1DM</dc:title>
</cp:coreProperties>
</file>